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HIMES.WAV" ContentType="audio/x-wav"/>
  <Override PartName="/ppt/media/camera.wav" ContentType="audio/x-wav"/>
  <Override PartName="/ppt/media/EXPLODE.WAV" ContentType="audio/x-wav"/>
  <Override PartName="/ppt/media/image2.wmf" ContentType="image/x-wmf"/>
  <Override PartName="/ppt/media/driveby.wav" ContentType="audio/x-wav"/>
  <Override PartName="/ppt/media/carbrake.wav" ContentType="audio/x-wav"/>
  <Override PartName="/ppt/media/gunshot.wav" ContentType="audio/x-wav"/>
  <Override PartName="/ppt/media/LASER.WAV" ContentType="audio/x-wav"/>
  <Override PartName="/ppt/media/image1.wmf" ContentType="image/x-wmf"/>
  <Override PartName="/ppt/media/image3.wmf" ContentType="image/x-wmf"/>
  <Override PartName="/ppt/media/projctor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EE9-6F4C-4CAC-AA59-7E033FDC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D7C-700D-473B-9221-95B2A34F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6E8-283C-4DE3-B05F-DFC0E5AA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559-A4BF-422A-BC10-2519B93E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726-E401-41AB-B9A0-D15CE34A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130-368A-4F45-8303-79EA0113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FCE-8491-412B-8FB1-3323E67B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D2D-3359-4D8A-96E8-7CC2740D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7F2-43E9-45FC-ADCC-3FF26408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637-B0E7-4086-8F72-F0CA3642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FDB-3DB8-48FB-84E4-541F02D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D7D-5890-43A8-8E03-A4F6B86C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FFBA-4D6F-4499-9E7F-1CBFC0D2D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driveby.wav"/><Relationship Id="rId6" Type="http://schemas.openxmlformats.org/officeDocument/2006/relationships/audio" Target="../media/carbrake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camera.wav"/><Relationship Id="rId14" Type="http://schemas.openxmlformats.org/officeDocument/2006/relationships/audio" Target="../media/gunshot.wav"/><Relationship Id="rId15" Type="http://schemas.openxmlformats.org/officeDocument/2006/relationships/audio" Target="../media/LASER.WAV"/><Relationship Id="rId16" Type="http://schemas.openxmlformats.org/officeDocument/2006/relationships/audio" Target="../media/gunshot.wav"/><Relationship Id="rId17" Type="http://schemas.openxmlformats.org/officeDocument/2006/relationships/audio" Target="../media/camera.wav"/><Relationship Id="rId18" Type="http://schemas.openxmlformats.org/officeDocument/2006/relationships/audio" Target="../media/LASER.WAV"/><Relationship Id="rId19" Type="http://schemas.openxmlformats.org/officeDocument/2006/relationships/audio" Target="../media/gunshot.wav"/><Relationship Id="rId20" Type="http://schemas.openxmlformats.org/officeDocument/2006/relationships/audio" Target="../media/camera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driveby.wav"/><Relationship Id="rId13" Type="http://schemas.openxmlformats.org/officeDocument/2006/relationships/audio" Target="../media/gunshot.wav"/><Relationship Id="rId14" Type="http://schemas.openxmlformats.org/officeDocument/2006/relationships/audio" Target="../media/driveby.wav"/><Relationship Id="rId15" Type="http://schemas.openxmlformats.org/officeDocument/2006/relationships/audio" Target="../media/carbrake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driveby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carbrake.wav"/><Relationship Id="rId8" Type="http://schemas.openxmlformats.org/officeDocument/2006/relationships/audio" Target="../media/projctor.wav"/><Relationship Id="rId9" Type="http://schemas.openxmlformats.org/officeDocument/2006/relationships/audio" Target="../media/camera.wav"/><Relationship Id="rId10" Type="http://schemas.openxmlformats.org/officeDocument/2006/relationships/audio" Target="../media/carbrake.wav"/><Relationship Id="rId11" Type="http://schemas.openxmlformats.org/officeDocument/2006/relationships/audio" Target="../media/gunshot.wav"/><Relationship Id="rId12" Type="http://schemas.openxmlformats.org/officeDocument/2006/relationships/audio" Target="../media/EXPLODE.WAV"/><Relationship Id="rId13" Type="http://schemas.openxmlformats.org/officeDocument/2006/relationships/audio" Target="../media/carbrake.wav"/><Relationship Id="rId14" Type="http://schemas.openxmlformats.org/officeDocument/2006/relationships/audio" Target="../media/gunshot.wav"/><Relationship Id="rId15" Type="http://schemas.openxmlformats.org/officeDocument/2006/relationships/audio" Target="../media/EXPLODE.WAV"/><Relationship Id="rId16" Type="http://schemas.openxmlformats.org/officeDocument/2006/relationships/audio" Target="../media/carbrake.wav"/><Relationship Id="rId17" Type="http://schemas.openxmlformats.org/officeDocument/2006/relationships/audio" Target="../media/gunshot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rbrake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audio" Target="../media/carbrake.wav"/><Relationship Id="rId13" Type="http://schemas.openxmlformats.org/officeDocument/2006/relationships/audio" Target="../media/gunshot.wav"/><Relationship Id="rId14" Type="http://schemas.openxmlformats.org/officeDocument/2006/relationships/audio" Target="../media/EXPLODE.WAV"/><Relationship Id="rId15" Type="http://schemas.openxmlformats.org/officeDocument/2006/relationships/audio" Target="../media/carbrake.wav"/><Relationship Id="rId16" Type="http://schemas.openxmlformats.org/officeDocument/2006/relationships/audio" Target="../media/gunshot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rbrake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audio" Target="../media/carbrake.wav"/><Relationship Id="rId13" Type="http://schemas.openxmlformats.org/officeDocument/2006/relationships/audio" Target="../media/gunshot.wav"/><Relationship Id="rId14" Type="http://schemas.openxmlformats.org/officeDocument/2006/relationships/audio" Target="../media/EXPLODE.WAV"/><Relationship Id="rId15" Type="http://schemas.openxmlformats.org/officeDocument/2006/relationships/audio" Target="../media/carbrake.wav"/><Relationship Id="rId16" Type="http://schemas.openxmlformats.org/officeDocument/2006/relationships/audio" Target="../media/gunshot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rbrake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audio" Target="../media/carbrake.wav"/><Relationship Id="rId13" Type="http://schemas.openxmlformats.org/officeDocument/2006/relationships/audio" Target="../media/gunshot.wav"/><Relationship Id="rId14" Type="http://schemas.openxmlformats.org/officeDocument/2006/relationships/audio" Target="../media/EXPLODE.WAV"/><Relationship Id="rId15" Type="http://schemas.openxmlformats.org/officeDocument/2006/relationships/audio" Target="../media/carbrake.wav"/><Relationship Id="rId16" Type="http://schemas.openxmlformats.org/officeDocument/2006/relationships/audio" Target="../media/gunshot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rbrake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audio" Target="../media/carbrake.wav"/><Relationship Id="rId13" Type="http://schemas.openxmlformats.org/officeDocument/2006/relationships/audio" Target="../media/gunshot.wav"/><Relationship Id="rId14" Type="http://schemas.openxmlformats.org/officeDocument/2006/relationships/audio" Target="../media/EXPLODE.WAV"/><Relationship Id="rId15" Type="http://schemas.openxmlformats.org/officeDocument/2006/relationships/audio" Target="../media/carbrake.wav"/><Relationship Id="rId16" Type="http://schemas.openxmlformats.org/officeDocument/2006/relationships/audio" Target="../media/gunshot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projctor.wav"/><Relationship Id="rId8" Type="http://schemas.openxmlformats.org/officeDocument/2006/relationships/audio" Target="../media/camera.wav"/><Relationship Id="rId9" Type="http://schemas.openxmlformats.org/officeDocument/2006/relationships/audio" Target="../media/carbrake.wav"/><Relationship Id="rId10" Type="http://schemas.openxmlformats.org/officeDocument/2006/relationships/audio" Target="../media/gunshot.wav"/><Relationship Id="rId11" Type="http://schemas.openxmlformats.org/officeDocument/2006/relationships/audio" Target="../media/EXPLODE.WAV"/><Relationship Id="rId12" Type="http://schemas.openxmlformats.org/officeDocument/2006/relationships/audio" Target="../media/carbrake.wav"/><Relationship Id="rId13" Type="http://schemas.openxmlformats.org/officeDocument/2006/relationships/audio" Target="../media/gunshot.wav"/><Relationship Id="rId14" Type="http://schemas.openxmlformats.org/officeDocument/2006/relationships/audio" Target="../media/EXPLODE.WAV"/><Relationship Id="rId15" Type="http://schemas.openxmlformats.org/officeDocument/2006/relationships/audio" Target="../media/carbrake.wav"/><Relationship Id="rId16" Type="http://schemas.openxmlformats.org/officeDocument/2006/relationships/audio" Target="../media/gunshot.wav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066680" y="1523880"/>
            <a:ext cx="2743200" cy="2743200"/>
            <a:chOff x="1066680" y="1523880"/>
            <a:chExt cx="2743200" cy="2743200"/>
          </a:xfrm>
        </p:grpSpPr>
        <p:sp>
          <p:nvSpPr>
            <p:cNvPr id="44" name=""/>
            <p:cNvSpPr/>
            <p:nvPr/>
          </p:nvSpPr>
          <p:spPr>
            <a:xfrm>
              <a:off x="1676160" y="1523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85640" y="1523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15238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04960" y="152388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66680" y="152388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15238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66680" y="18288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6680" y="21337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66680" y="24382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66680" y="27432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66680" y="30481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6680" y="335268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365760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6680" y="396252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5640" y="152388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304812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334120" y="2590920"/>
                <a:ext cx="175248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572000" y="426708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eft and rig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3581280"/>
            <a:ext cx="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895480"/>
            <a:ext cx="18288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38080" y="2895480"/>
            <a:ext cx="13716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629400" y="1905120"/>
            <a:ext cx="0" cy="9144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144792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p and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438280" y="1294920"/>
            <a:ext cx="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124080"/>
            <a:ext cx="0" cy="1295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4952880"/>
            <a:ext cx="6629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Times New Roman"/>
              </a:rPr>
              <a:t>To plot the point ( 2, -4 ), start at the origin and go 2 units to the right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97180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0481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2971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86728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9900"/>
                </a:solidFill>
                <a:latin typeface="Times New Roman"/>
              </a:rPr>
              <a:t>then go 4 units dow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048120"/>
            <a:ext cx="0" cy="12189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41911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632448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This is the point ( 2, -4 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86000" y="4343400"/>
                <a:ext cx="13143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609480"/>
            <a:ext cx="94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Exercises 9 and 10, use a scatter plot to see if the given information is correct. If not, explain how the data should be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209680" y="2895480"/>
            <a:ext cx="3276720" cy="3281400"/>
            <a:chOff x="2209680" y="2895480"/>
            <a:chExt cx="3276720" cy="3281400"/>
          </a:xfrm>
        </p:grpSpPr>
        <p:grpSp>
          <p:nvGrpSpPr>
            <p:cNvPr id="385" name=""/>
            <p:cNvGrpSpPr/>
            <p:nvPr/>
          </p:nvGrpSpPr>
          <p:grpSpPr>
            <a:xfrm>
              <a:off x="2209680" y="2900520"/>
              <a:ext cx="3276720" cy="3276360"/>
              <a:chOff x="2209680" y="2900520"/>
              <a:chExt cx="3276720" cy="3276360"/>
            </a:xfrm>
          </p:grpSpPr>
          <p:sp>
            <p:nvSpPr>
              <p:cNvPr id="386" name=""/>
              <p:cNvSpPr/>
              <p:nvPr/>
            </p:nvSpPr>
            <p:spPr>
              <a:xfrm>
                <a:off x="2209680" y="3719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09680" y="3992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209680" y="426564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09680" y="453852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09680" y="481176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09680" y="508464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09680" y="535788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209680" y="563076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09680" y="590400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09680" y="3446640"/>
                <a:ext cx="27306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20968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48292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75580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2904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30192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57516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4804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21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94160" y="3446640"/>
                <a:ext cx="27288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6704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40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21316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09680" y="3173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09680" y="2900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flipV="1">
              <a:off x="3292560" y="28954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H="1">
            <a:off x="2117880" y="2768760"/>
            <a:ext cx="79200" cy="3382920"/>
          </a:xfrm>
          <a:custGeom>
            <a:avLst/>
            <a:gdLst/>
            <a:ahLst/>
            <a:rect l="l" t="t" r="r" b="b"/>
            <a:pathLst>
              <a:path w="1" h="2291">
                <a:moveTo>
                  <a:pt x="0" y="22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209680" y="6095880"/>
            <a:ext cx="3276720" cy="7632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52578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5029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05320" y="4648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495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09680" y="6172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2  3  4  5   6  7   8  9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2743200"/>
            <a:ext cx="76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838080" y="1523880"/>
            <a:ext cx="6629400" cy="1219320"/>
            <a:chOff x="838080" y="1523880"/>
            <a:chExt cx="6629400" cy="1219320"/>
          </a:xfrm>
        </p:grpSpPr>
        <p:grpSp>
          <p:nvGrpSpPr>
            <p:cNvPr id="420" name=""/>
            <p:cNvGrpSpPr/>
            <p:nvPr/>
          </p:nvGrpSpPr>
          <p:grpSpPr>
            <a:xfrm>
              <a:off x="1371600" y="1600200"/>
              <a:ext cx="6095880" cy="1143000"/>
              <a:chOff x="1371600" y="1600200"/>
              <a:chExt cx="6095880" cy="1143000"/>
            </a:xfrm>
          </p:grpSpPr>
          <p:sp>
            <p:nvSpPr>
              <p:cNvPr id="421" name=""/>
              <p:cNvSpPr/>
              <p:nvPr/>
            </p:nvSpPr>
            <p:spPr>
              <a:xfrm>
                <a:off x="1371600" y="1600200"/>
                <a:ext cx="6019560" cy="1143000"/>
              </a:xfrm>
              <a:prstGeom prst="rect">
                <a:avLst/>
              </a:prstGeom>
              <a:solidFill>
                <a:srgbClr val="ffffcc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600" y="2133720"/>
                <a:ext cx="6019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3911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00200" y="1600200"/>
                <a:ext cx="586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uarts              3.0     4.0     5.0     6.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23880" y="2133720"/>
                <a:ext cx="563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Gallons           0.75    1.0      1.3    1.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838080" y="1523880"/>
              <a:ext cx="53352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2209680" y="3276360"/>
            <a:ext cx="2895840" cy="2895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76720" y="4495680"/>
            <a:ext cx="6094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388620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 Quarts should be 1.25 gallons to be in lin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36" idx="6"/>
            <a:endCxn id="437" idx="1"/>
          </p:cNvCxnSpPr>
          <p:nvPr/>
        </p:nvCxnSpPr>
        <p:spPr>
          <a:xfrm flipV="1">
            <a:off x="3904920" y="4312800"/>
            <a:ext cx="1810440" cy="411840"/>
          </a:xfrm>
          <a:prstGeom prst="curvedConnector5">
            <a:avLst>
              <a:gd name="adj1" fmla="val 49463"/>
              <a:gd name="adj2" fmla="val 49956"/>
              <a:gd name="adj3" fmla="val 49463"/>
            </a:avLst>
          </a:prstGeom>
          <a:ln w="38160">
            <a:solidFill>
              <a:srgbClr val="ff33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75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75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75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75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609480"/>
            <a:ext cx="94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Exercises 9 and 10, use a scatter plot to see if the given information is correct. If not, explain how the data should be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209680" y="2895480"/>
            <a:ext cx="3276720" cy="3281400"/>
            <a:chOff x="2209680" y="2895480"/>
            <a:chExt cx="3276720" cy="3281400"/>
          </a:xfrm>
        </p:grpSpPr>
        <p:grpSp>
          <p:nvGrpSpPr>
            <p:cNvPr id="442" name=""/>
            <p:cNvGrpSpPr/>
            <p:nvPr/>
          </p:nvGrpSpPr>
          <p:grpSpPr>
            <a:xfrm>
              <a:off x="2209680" y="2900520"/>
              <a:ext cx="3276720" cy="3276360"/>
              <a:chOff x="2209680" y="2900520"/>
              <a:chExt cx="3276720" cy="3276360"/>
            </a:xfrm>
          </p:grpSpPr>
          <p:sp>
            <p:nvSpPr>
              <p:cNvPr id="443" name=""/>
              <p:cNvSpPr/>
              <p:nvPr/>
            </p:nvSpPr>
            <p:spPr>
              <a:xfrm>
                <a:off x="2209680" y="3719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209680" y="3992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09680" y="426564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209680" y="453852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09680" y="481176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209680" y="508464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09680" y="535788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09680" y="563076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209680" y="590400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09680" y="3446640"/>
                <a:ext cx="27306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0968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48292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75580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02904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30192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7516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84804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121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94160" y="3446640"/>
                <a:ext cx="27288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6704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940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21316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09680" y="3173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09680" y="2900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V="1">
              <a:off x="3292560" y="28954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H="1">
            <a:off x="2117880" y="2768760"/>
            <a:ext cx="79200" cy="3382920"/>
          </a:xfrm>
          <a:custGeom>
            <a:avLst/>
            <a:gdLst/>
            <a:ahLst/>
            <a:rect l="l" t="t" r="r" b="b"/>
            <a:pathLst>
              <a:path w="1" h="2291">
                <a:moveTo>
                  <a:pt x="0" y="22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209680" y="6095880"/>
            <a:ext cx="3276720" cy="7632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71800" y="4800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67080" y="32004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09680" y="6172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 2  3  4  5   6  7   8  9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600200" y="2743200"/>
            <a:ext cx="76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09480" y="1447920"/>
            <a:ext cx="7543080" cy="1218600"/>
            <a:chOff x="609480" y="1447920"/>
            <a:chExt cx="7543080" cy="1218600"/>
          </a:xfrm>
        </p:grpSpPr>
        <p:grpSp>
          <p:nvGrpSpPr>
            <p:cNvPr id="477" name=""/>
            <p:cNvGrpSpPr/>
            <p:nvPr/>
          </p:nvGrpSpPr>
          <p:grpSpPr>
            <a:xfrm>
              <a:off x="1294920" y="1523880"/>
              <a:ext cx="6857640" cy="1142640"/>
              <a:chOff x="1294920" y="1523880"/>
              <a:chExt cx="6857640" cy="1142640"/>
            </a:xfrm>
          </p:grpSpPr>
          <p:sp>
            <p:nvSpPr>
              <p:cNvPr id="478" name=""/>
              <p:cNvSpPr/>
              <p:nvPr/>
            </p:nvSpPr>
            <p:spPr>
              <a:xfrm>
                <a:off x="1294920" y="1523880"/>
                <a:ext cx="6771960" cy="1142640"/>
              </a:xfrm>
              <a:prstGeom prst="rect">
                <a:avLst/>
              </a:prstGeom>
              <a:solidFill>
                <a:srgbClr val="ffffcc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294920" y="2057040"/>
                <a:ext cx="6771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5208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5208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8060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060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00948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0948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03800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03800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066880" y="1523880"/>
                <a:ext cx="0" cy="11426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551960" y="1523880"/>
                <a:ext cx="660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Hours                   3          5          6         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465920" y="2057040"/>
                <a:ext cx="634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Rental Charge     14        20        24       3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609480" y="1447920"/>
              <a:ext cx="8568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 flipV="1">
            <a:off x="2209680" y="2819160"/>
            <a:ext cx="2514600" cy="33526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5000" y="3886200"/>
            <a:ext cx="3429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 Hours should be 12 dollars in rental charges to be in lin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00440" y="4678200"/>
            <a:ext cx="60948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4" idx="6"/>
            <a:endCxn id="493" idx="1"/>
          </p:cNvCxnSpPr>
          <p:nvPr/>
        </p:nvCxnSpPr>
        <p:spPr>
          <a:xfrm flipV="1">
            <a:off x="3429000" y="4503240"/>
            <a:ext cx="2286720" cy="403920"/>
          </a:xfrm>
          <a:prstGeom prst="curvedConnector5">
            <a:avLst>
              <a:gd name="adj1" fmla="val 49582"/>
              <a:gd name="adj2" fmla="val 49955"/>
              <a:gd name="adj3" fmla="val 49582"/>
            </a:avLst>
          </a:prstGeom>
          <a:ln w="38160">
            <a:solidFill>
              <a:srgbClr val="ff33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75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75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75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81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5 units to the right, 4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8195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19520" y="281952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1952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0880" y="1676520"/>
                <a:ext cx="7078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,4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0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657600" y="297180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3 units to the left, on x-ax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0384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411480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1148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657600" y="350532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1 unit to the left, 2 unit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46483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66680" y="472428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72428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114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3 units to the left, 2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4290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97180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4920" y="1676520"/>
                <a:ext cx="6815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2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0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657600" y="297180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at the orig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40384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28800" y="411480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1148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657600" y="350532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2 units to the right, 2 unit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6483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14600" y="472428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72428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147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on the y-axis, 4 unit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2578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95280" y="510552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10552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28600" y="1676520"/>
                <a:ext cx="655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5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657600" y="297180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3 units to the right, 5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2514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895480" y="259092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59092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657600" y="350532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3 units to the right, 1 unit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43434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19520" y="434340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3434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180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1 unit to the left, 2 unit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46483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43000" y="472428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8600" y="1676520"/>
                <a:ext cx="7518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657600" y="297180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5 units to the right, 2 units d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46483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581280" y="464832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64832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657600" y="380988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4 units to the left, on the x-ax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0384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04920" y="358128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58128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213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1 unit to the left, 3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31240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43000" y="274320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04920" y="1676520"/>
                <a:ext cx="66405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3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0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657600" y="297180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2 units to the right, on the x-ax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4038480"/>
            <a:ext cx="15264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14600" y="411480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1148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3657600" y="3809880"/>
            <a:ext cx="54864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3 units to the right, 2 units down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464832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19520" y="472428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72428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otting Points in a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85800" y="2590920"/>
            <a:ext cx="2743200" cy="2743200"/>
            <a:chOff x="685800" y="2590920"/>
            <a:chExt cx="2743200" cy="2743200"/>
          </a:xfrm>
        </p:grpSpPr>
        <p:sp>
          <p:nvSpPr>
            <p:cNvPr id="246" name=""/>
            <p:cNvSpPr/>
            <p:nvPr/>
          </p:nvSpPr>
          <p:spPr>
            <a:xfrm>
              <a:off x="12952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0476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2590920"/>
              <a:ext cx="30492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" y="2590920"/>
              <a:ext cx="3045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5800" y="25909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5800" y="28958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" y="32007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00" y="35053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" y="38102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" y="41151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" y="441972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4724640"/>
              <a:ext cx="2743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800" y="5029560"/>
              <a:ext cx="27432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4760" y="2590920"/>
              <a:ext cx="0" cy="2743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5800" y="411516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0" y="114300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lot and label the ordered pairs in a coordinate plan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243828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A: 2 units to the right, 4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2819520"/>
            <a:ext cx="15264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590920" y="2514600"/>
          <a:ext cx="41436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146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04920" y="1676520"/>
                <a:ext cx="64627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4</m:t>
                        </m:r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5</m:t>
                        </m:r>
                      </m:e>
                    </m:d>
                    <m:r>
                      <m:t xml:space="preserve">,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3657600" y="297180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B: 2 units to the left, 5 units 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514600"/>
            <a:ext cx="152280" cy="1522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080" y="2514600"/>
          <a:ext cx="4143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3657600" y="350532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: on the y-axis, 3 units up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981080" y="3200400"/>
          <a:ext cx="4143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200400"/>
                    <a:ext cx="414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094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7 and 8, make a scatter plot of the data. Use the horizontal axis to represent ti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09680" y="2895480"/>
            <a:ext cx="3276720" cy="3281400"/>
            <a:chOff x="2209680" y="2895480"/>
            <a:chExt cx="3276720" cy="3281400"/>
          </a:xfrm>
        </p:grpSpPr>
        <p:grpSp>
          <p:nvGrpSpPr>
            <p:cNvPr id="279" name=""/>
            <p:cNvGrpSpPr/>
            <p:nvPr/>
          </p:nvGrpSpPr>
          <p:grpSpPr>
            <a:xfrm>
              <a:off x="2209680" y="2900520"/>
              <a:ext cx="3276720" cy="3276360"/>
              <a:chOff x="2209680" y="2900520"/>
              <a:chExt cx="3276720" cy="3276360"/>
            </a:xfrm>
          </p:grpSpPr>
          <p:sp>
            <p:nvSpPr>
              <p:cNvPr id="280" name=""/>
              <p:cNvSpPr/>
              <p:nvPr/>
            </p:nvSpPr>
            <p:spPr>
              <a:xfrm>
                <a:off x="2209680" y="3719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09680" y="3992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09680" y="426564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09680" y="453852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09680" y="481176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09680" y="508464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209680" y="535788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209680" y="563076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09680" y="590400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09680" y="3446640"/>
                <a:ext cx="27306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0968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8292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5580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02904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0192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57516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4804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121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94160" y="3446640"/>
                <a:ext cx="27288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6704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940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1316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09680" y="3173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09680" y="2900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3292560" y="28954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 flipH="1">
            <a:off x="2117880" y="2768760"/>
            <a:ext cx="79200" cy="3382920"/>
          </a:xfrm>
          <a:custGeom>
            <a:avLst/>
            <a:gdLst/>
            <a:ahLst/>
            <a:rect l="l" t="t" r="r" b="b"/>
            <a:pathLst>
              <a:path w="1" h="2291">
                <a:moveTo>
                  <a:pt x="0" y="22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209680" y="6095880"/>
            <a:ext cx="3276720" cy="7632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33920" y="36576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6172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7   98   99  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2743200"/>
            <a:ext cx="76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838080" y="1523880"/>
            <a:ext cx="6629400" cy="1219320"/>
            <a:chOff x="838080" y="1523880"/>
            <a:chExt cx="6629400" cy="1219320"/>
          </a:xfrm>
        </p:grpSpPr>
        <p:grpSp>
          <p:nvGrpSpPr>
            <p:cNvPr id="314" name=""/>
            <p:cNvGrpSpPr/>
            <p:nvPr/>
          </p:nvGrpSpPr>
          <p:grpSpPr>
            <a:xfrm>
              <a:off x="1371600" y="1600200"/>
              <a:ext cx="6095880" cy="1143000"/>
              <a:chOff x="1371600" y="1600200"/>
              <a:chExt cx="6095880" cy="1143000"/>
            </a:xfrm>
          </p:grpSpPr>
          <p:sp>
            <p:nvSpPr>
              <p:cNvPr id="315" name=""/>
              <p:cNvSpPr/>
              <p:nvPr/>
            </p:nvSpPr>
            <p:spPr>
              <a:xfrm>
                <a:off x="1371600" y="1600200"/>
                <a:ext cx="6019560" cy="1143000"/>
              </a:xfrm>
              <a:prstGeom prst="rect">
                <a:avLst/>
              </a:prstGeom>
              <a:solidFill>
                <a:srgbClr val="ffffcc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71600" y="2133720"/>
                <a:ext cx="6019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911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00200" y="1600200"/>
                <a:ext cx="586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ear               1997  1998   1999  2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23880" y="2133720"/>
                <a:ext cx="563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embers         74      81       89      9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838080" y="1523880"/>
              <a:ext cx="53352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75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75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7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7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4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609480"/>
            <a:ext cx="8839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 Exercises 7 and 8, make a scatter plot of the data. Use the horizontal axis to represent ti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209680" y="2895480"/>
            <a:ext cx="3276720" cy="3281400"/>
            <a:chOff x="2209680" y="2895480"/>
            <a:chExt cx="3276720" cy="3281400"/>
          </a:xfrm>
        </p:grpSpPr>
        <p:grpSp>
          <p:nvGrpSpPr>
            <p:cNvPr id="332" name=""/>
            <p:cNvGrpSpPr/>
            <p:nvPr/>
          </p:nvGrpSpPr>
          <p:grpSpPr>
            <a:xfrm>
              <a:off x="2209680" y="2900520"/>
              <a:ext cx="3276720" cy="3276360"/>
              <a:chOff x="2209680" y="2900520"/>
              <a:chExt cx="3276720" cy="3276360"/>
            </a:xfrm>
          </p:grpSpPr>
          <p:sp>
            <p:nvSpPr>
              <p:cNvPr id="333" name=""/>
              <p:cNvSpPr/>
              <p:nvPr/>
            </p:nvSpPr>
            <p:spPr>
              <a:xfrm>
                <a:off x="2209680" y="3719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09680" y="3992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209680" y="426564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209680" y="453852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209680" y="481176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209680" y="508464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9680" y="535788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209680" y="563076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209680" y="590400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209680" y="3446640"/>
                <a:ext cx="27306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20968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48292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75580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2904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0192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7516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4804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121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94160" y="3446640"/>
                <a:ext cx="27288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7040" y="2900520"/>
                <a:ext cx="27324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40280" y="2900520"/>
                <a:ext cx="272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213160" y="3446640"/>
                <a:ext cx="273240" cy="2730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209680" y="3173400"/>
                <a:ext cx="327672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09680" y="2900520"/>
                <a:ext cx="327672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flipV="1">
              <a:off x="3292560" y="28954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 flipH="1">
            <a:off x="2117880" y="2768760"/>
            <a:ext cx="79200" cy="3382920"/>
          </a:xfrm>
          <a:custGeom>
            <a:avLst/>
            <a:gdLst/>
            <a:ahLst/>
            <a:rect l="l" t="t" r="r" b="b"/>
            <a:pathLst>
              <a:path w="1" h="2291">
                <a:moveTo>
                  <a:pt x="0" y="229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09680" y="6095880"/>
            <a:ext cx="3276720" cy="76320"/>
          </a:xfrm>
          <a:custGeom>
            <a:avLst/>
            <a:gdLst/>
            <a:ahLst/>
            <a:rect l="l" t="t" r="r" b="b"/>
            <a:pathLst>
              <a:path w="2368" h="1">
                <a:moveTo>
                  <a:pt x="0" y="0"/>
                </a:moveTo>
                <a:lnTo>
                  <a:pt x="2368" y="0"/>
                </a:lnTo>
              </a:path>
            </a:pathLst>
          </a:custGeom>
          <a:noFill/>
          <a:ln w="3816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4876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4495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5257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09680" y="6172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   F  M A M J  J  A  S O  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00200" y="2743200"/>
            <a:ext cx="762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38080" y="1523880"/>
            <a:ext cx="6629400" cy="1219320"/>
            <a:chOff x="838080" y="1523880"/>
            <a:chExt cx="6629400" cy="1219320"/>
          </a:xfrm>
        </p:grpSpPr>
        <p:grpSp>
          <p:nvGrpSpPr>
            <p:cNvPr id="367" name=""/>
            <p:cNvGrpSpPr/>
            <p:nvPr/>
          </p:nvGrpSpPr>
          <p:grpSpPr>
            <a:xfrm>
              <a:off x="1371600" y="1600200"/>
              <a:ext cx="6095880" cy="1143000"/>
              <a:chOff x="1371600" y="1600200"/>
              <a:chExt cx="6095880" cy="1143000"/>
            </a:xfrm>
          </p:grpSpPr>
          <p:sp>
            <p:nvSpPr>
              <p:cNvPr id="368" name=""/>
              <p:cNvSpPr/>
              <p:nvPr/>
            </p:nvSpPr>
            <p:spPr>
              <a:xfrm>
                <a:off x="1371600" y="1600200"/>
                <a:ext cx="6019560" cy="1143000"/>
              </a:xfrm>
              <a:prstGeom prst="rect">
                <a:avLst/>
              </a:prstGeom>
              <a:solidFill>
                <a:srgbClr val="ffffcc"/>
              </a:solidFill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71600" y="2133720"/>
                <a:ext cx="6019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35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479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3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767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91160" y="1600200"/>
                <a:ext cx="0" cy="11430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00200" y="1600200"/>
                <a:ext cx="586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onth             Jan.  Apr.   Aug.  Dec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23880" y="2133720"/>
                <a:ext cx="563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dults              22      30       15      4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838080" y="1523880"/>
              <a:ext cx="53352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75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75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1:29:29Z</dcterms:modified>
  <cp:revision>244</cp:revision>
  <dc:subject/>
  <dc:title>No Slide Title</dc:title>
</cp:coreProperties>
</file>